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B34-E327-43E4-8617-4D5FAB4F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6FD-077A-471B-B568-F611A473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6A5-4959-4A5E-93F0-B3568F36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A82-D176-4297-92B4-A26B45DF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FC4-CB84-4763-9098-0A249023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E16-4A45-41A4-AFF8-BDD489B0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DA2-156C-462E-8420-9E7B4AC4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CBC-32F6-45CE-8F90-2987A0CE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DBC-B317-4C93-B1FF-9390DEA0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3BC-31B0-49F4-BBA4-CD74170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5AD-A069-4924-ADFD-EE9B824F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035-C480-43AE-911B-4FCABC4C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2F58-DF14-4484-BD50-0CF88CDB4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ήσιμοι σύνθετοι μετασχηματισμο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2060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Περιγραφή σκηνής ως προς περιστραμμένο</a:t>
            </a:r>
            <a:br>
              <a:rPr sz="1800"/>
            </a:b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ύστημα συντεταγμέ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β) Περιστροφή στις 2Δ ως προς αυθαίρετα επιλεγμένο σημεί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) Περιστροφή στις 3Δ ως προς άξονα περιστροφής που διέρχεται από την αρχή των αξόν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δ) Περιστροφή στις 3Δ ως προς άξονα περιστροφής που διέρχεται από τυχαίο σημεί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γραφή σκηνής ως προς περιστραμμέν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στημα συντεταγ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18920" y="1483920"/>
            <a:ext cx="4105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ρκεί να βρούμε τους διαδοχικούς μετασχηματισμούς που οδηγούν στην ταύτιση των αξόνων του νέου συστήματος συντεταγμένων με τους ομώνυμους άξονες του αρχικού συστήματο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i="1" lang="en-US" sz="1800" spc="-1" strike="noStrike" baseline="-25000">
                <a:solidFill>
                  <a:srgbClr val="ffcc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η γωνία που σχηματίζουν οι άξονε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y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i="1" lang="en-US" sz="1800" spc="-1" strike="noStrike" baseline="-25000">
                <a:solidFill>
                  <a:srgbClr val="ffcc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η γωνία που σχηματίζει η προβολή του άξονα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y’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το επίπεδο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Περιστροφή της σκηνής κατά γωνία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–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i="1" lang="en-US" sz="1800" spc="-1" strike="noStrike" baseline="-25000">
                <a:solidFill>
                  <a:srgbClr val="ffcc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ε άξονα περιστροφής τον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663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νθετη περιστροφή συστήματος συντεταγμένων - Μητρώο μετασχηματισμ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47640" y="328428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Κώδικας υλοποίησης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MatrixMode ( GL_MODELVIEW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LoadIdentity 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Rotate(-thetaY, 0, 0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Rotate(-thetaX, 0, 1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9832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στροφή σχήματος ως π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θαίρετα επιλεγμένο σημείο (2Δ)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Το μητρώα  που ορίζουμε με τις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glRotate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*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εκτελούν περιστροφές ως προς </a:t>
            </a:r>
            <a:r>
              <a:rPr b="1" lang="el-GR" sz="1800" spc="-1" strike="noStrike">
                <a:solidFill>
                  <a:srgbClr val="ff0000"/>
                </a:solidFill>
                <a:latin typeface="Times New Roman"/>
              </a:rPr>
              <a:t>την αρχή των αξόνων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του συστήματος συντεταγμένων σκηνή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ια την περιστροφή ως προς ένα αυθαίρετα επιλεγμένο σημείο πρέπει να ορίσουμε έναν σύνθετο μετασχηματισμ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στροφή σχήματος ως π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θαίρετα επιλεγμένο σημείο (2Δ)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7640" y="191592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Βήματα του μετασχηματισμού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Ανάγουμε τη σκηνή σε σύστημα συντεταγμένων με αρχ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στο σημείο 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xc,yc)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ετατόπιση κατά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-xc,-yc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β) Περιστρέφουμε τις συντεταγμένες κατά τη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ροβλεπόμενη γων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γ) Επαναφέρουμε την περιγραφή της σκηνής ως προς τ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ρχικό σύστημα συντεταγμένω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μετατόπιση κατά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(xc,yc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στροφή σχήματος ως π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θαίρετα επιλεγμένο σημείο (2Δ)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19280" y="3141720"/>
            <a:ext cx="6400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Κώδικας υλοποίησης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MatrixMode ( GL_MODELVIEW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LoadIdentity 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Translate*( xc, yc, 0 );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// 3ος εφαρμοζόμενος Μ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Rotate*( α, 0, 0, 1 );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// 2ος εφαρμοζόμενος Μ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glTranslate*( -xc, -yc, 0);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// 1ος εφαρμοζόμενος Μ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7690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στροφή σχήματος στι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υχαίο άξονα περιστροφή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Έστω 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vx,vy,vz)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 το διάνυσμα διεύθυνσης του άξον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περιστροφή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Δύο περιπτώσει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Ο άξονας περιστροφής διέρχεται από την αρχή τ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ξόν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β) Ο άξονας περιστροφής διέρχεται από τυχαίο σημεί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xc, yc, z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) Άξονας περιστροφής διερχόμεν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αρχή των αξό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4149360"/>
            <a:ext cx="262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α) Ανάγουμε τη σκηνή σε σύστημα συντεταγμένων περιστραμμένο ως προς το αρχικό και τέτοιο ώστε ένας από τους άξονές του να ταυτίζεται με τον άξονα περιστροφή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592360" cy="250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2808360" cy="2494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32000" y="422100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β) Περιστρέφουμε τη σκηνή κατά την επιθυμητή γωνία </a:t>
            </a:r>
            <a:r>
              <a:rPr b="0" i="1" lang="el-GR" sz="1600" spc="-1" strike="noStrike">
                <a:solidFill>
                  <a:srgbClr val="ffcc00"/>
                </a:solidFill>
                <a:latin typeface="Times New Roman"/>
              </a:rPr>
              <a:t>α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42040" y="1484280"/>
            <a:ext cx="2901960" cy="248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227640" y="4221000"/>
            <a:ext cx="29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γ) Επαναφέρουμε την περιγραφή της σκηνής στο αρχικά καθορισμένο σύστημα συντεταγμένω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) Άξονας περιστροφής διερχόμεν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υχαίο σημείο (vx0,vy0,vz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32000" y="2060640"/>
            <a:ext cx="374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Ομοίως με την προηγούμενη περίπτωση αλλά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α) προηγείται μεταφορά της αρχής των αξόνων στο σημείο </a:t>
            </a:r>
            <a:r>
              <a:rPr b="1" i="1" lang="el-GR" sz="1800" spc="-1" strike="noStrike">
                <a:solidFill>
                  <a:srgbClr val="ffcc00"/>
                </a:solidFill>
                <a:latin typeface="Times New Roman"/>
              </a:rPr>
              <a:t>(vx0,vy0,vz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</a:rPr>
              <a:t>β) μετά το πέρας των περιστροφών, έπεται η αντίστροφη μετατόπιση στο αρχικό σύστημα συντεταγμένω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09564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2:55:19Z</dcterms:created>
  <dc:creator>Theodoros Alexandropoulos</dc:creator>
  <dc:description/>
  <dc:language>en-US</dc:language>
  <cp:lastModifiedBy>Κώστας Καρπούζης</cp:lastModifiedBy>
  <dcterms:modified xsi:type="dcterms:W3CDTF">2008-09-10T13:30:58Z</dcterms:modified>
  <cp:revision>49</cp:revision>
  <dc:subject/>
  <dc:title>Slide 1</dc:title>
</cp:coreProperties>
</file>